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B50-3942-4D05-A5CD-4E161EAD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5E9-E8D5-4904-AF91-A81B2F25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240-9647-4C9C-9B90-F328A0EA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910-FEC0-441B-AF34-072FE837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586F-6A99-461E-AB64-93BBEF4D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AEBD-1FE6-4467-A50A-5D7013F4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11FF-A4C3-4029-9739-D729E5B2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DFAB-9DB1-44B1-8C51-D3C6C139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2290-73F3-4815-A9DC-06D273F3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9076-E5F9-449D-91E9-D34A4DA5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A8D9-3453-4045-967B-5873B041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618-C561-4CBE-BC1B-3C2FD70F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1612-AEB8-4134-B5F9-47CA5FAF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81BB-07AC-4E8F-803C-5F54F207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D82A-7C5A-4FCF-A3F2-9FBD335D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F3F5-5D69-4345-9437-72F9E015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3359-13A2-4BD3-A8B7-E7E2E521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3A3-7722-4607-A907-A24EDBDE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79E-1214-41E3-8BA1-52F77193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9D9-010D-4DAD-AA8C-04DCE1BE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C11-3D19-40C6-9757-27C616F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AD1-DD84-4059-8CD1-686B18E3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E96-0AFD-48B8-A057-A4B1F7D2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A73-AA2D-4EFA-A8F4-688B2803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DCDF-E486-4735-B82A-5BC3DABAA6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58A9-A556-453A-B2FC-1DE7F63404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6966000" cy="3124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f3b1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729"/>
                </a:solidFill>
                <a:latin typeface="Arial Black"/>
              </a:rPr>
              <a:t>Figures of Speech:</a:t>
            </a:r>
            <a:br>
              <a:rPr sz="4800"/>
            </a:br>
            <a:r>
              <a:rPr b="1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666729"/>
                </a:solidFill>
                <a:latin typeface="Arial"/>
              </a:rPr>
              <a:t>The art of playing with language.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celle Monteros and Paulo Fabri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Gauging Student Needs Assessment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CFQs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knowledge on literature, grammar and po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on dialogue and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 21st Centu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identify figurative speeches and to create an original and creative literary out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Gauging Student Needs Assessment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n use the information from these assessment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the perceived ideas of the students toward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new activities and develop existing teaching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can use the information from these assessment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their learning from other fields and articulate their ideas in a creativ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ir personal standards on their intellectual, aesthetic, and social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EN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3429000" cy="18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0666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is 21st century where communication plays a vital role in nation building, it is good for someone to know the basics of the figurative languag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n art that is most likely to be misunderstood by others because it is unusually absent in a common conversation. Through this, the students will be able to express their thoughts creatively, fluently, and effective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CFQ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figure of speech show the values of humility, creativity, and cheerful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promote peace in the interpersonal and social means with the use of effective communic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apply figures of speech in our daily lives while applying the necessary valu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Content Questions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possible to make use of the different figures of speech in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integrate figures of speech in daily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learning and insight we can get from using figures of speec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Vision for Unit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on planning of this unit plan, we wan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w methods and strategies in teaching while integrating modern means of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n effective medium of communication that promote a mutual understanding to every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up with a very excellent learning experience for th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is unit, we want our student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 and summarize the different figurative speeches in English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different figures of speech in creating po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tize an original dialogue for the role-playing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Project Approache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ur students work on this project,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appreciate the relevance of the figurative speech in human communi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to groups and learn to coope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their literary works to their p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21</a:t>
            </a:r>
            <a:r>
              <a:rPr b="1" lang="en-US" sz="4400" spc="-1" strike="noStrike" baseline="30000">
                <a:solidFill>
                  <a:srgbClr val="666729"/>
                </a:solidFill>
                <a:latin typeface="Arial"/>
              </a:rPr>
              <a:t>st</a:t>
            </a: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 Century Learning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will develop higher-order and 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skills in this unit as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of Critical Thinking and Problem Solv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Communication and Excellent 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amo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ve and Self-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30:48Z</dcterms:created>
  <dc:creator>nave1386</dc:creator>
  <dc:description/>
  <dc:language>en-US</dc:language>
  <cp:lastModifiedBy>nave1386</cp:lastModifiedBy>
  <dcterms:modified xsi:type="dcterms:W3CDTF">2010-09-20T21:29:23Z</dcterms:modified>
  <cp:revision>19</cp:revision>
  <dc:subject/>
  <dc:title>Figures of Speech:  The art of playing with language. </dc:title>
</cp:coreProperties>
</file>